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78D-9625-4B4D-B473-CA5DC7B1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20C-51DC-4585-AF61-F5D6B451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574BF-21C9-4056-B048-D11DC111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7039A-BEBA-4778-9C71-B70A1F0C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A00B7-8D5C-4EE8-9D49-3DCAA76E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AC3AA-626A-4968-B74C-F0E21791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85398-3199-4F6B-AA78-FB9108FC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BF6E2-4023-4BDC-9C64-03F001B2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4A362-B59C-4A02-B9DB-97F2E4FA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FDB56-A3A3-4CE4-A2CA-D53C0983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42622-8298-498E-BF42-F40538D4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4F2EE-149C-4A48-8239-BBFE9961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651-B7B7-4AE3-89C1-99BF9AB0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FDB4D-C13F-4BA6-B815-6C8428E0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585F6-3755-443C-ABDD-CF95F85F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18A3D-49DE-4F93-8FFB-294D8A8C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2D61B-6F02-43CF-B45C-5A4E8531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CFDEE-8EEB-4099-A0F0-699BAC38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9CCB1-9312-493C-9D33-9D8AF041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BAA50-A40A-4DE7-9B66-BBDD7604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CA00E-6A1A-4BAC-80B6-0B794D7A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93B4C-501A-4A58-A6E0-06F2B3F3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7989C-FB52-43DC-90C1-E65FC0C2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4C8-AE75-4F34-8522-F4AE3850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265E3-B2F4-4E8A-8AD8-61A39B25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440CC-C80A-49AE-84FF-04507744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748F7-318F-4A7B-8072-1CF2477B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0CC25-99EC-42E3-8457-54FA0049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AD253-CFA6-425D-911A-3EF0EFB4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C7F5F-2056-46B9-A7B6-487FDBCF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DA27E-8CEF-4CF8-8502-4851E584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49C9C-B63A-4982-AE74-8A988631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A198C-95D6-4F0D-B36C-C9080CCA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15F31-7660-4050-9730-F1BD9E77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3E2E-E4D1-4C27-89E8-CF4F5A4A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7FAE9-896F-4115-88D4-0C0130C6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8A4A1-9C98-465D-A027-28D21C15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02F99-44B0-4ACE-A8D7-2E17494D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5B1E9-7322-4017-A31A-DBBEB416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EBB6A-E587-4DA4-BD4E-6C059840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065E6-1E43-47F8-899F-5E105FD6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86893-2B35-4E65-85EB-CDADC44E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0968D-C904-4578-865B-CDDC5131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59301-DF31-4EE1-AC44-66F1F287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2F259-B65C-4435-B29C-4DE61996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745D-D343-492C-A4A8-074D2887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4346F-ECED-4167-A3DE-CD43996C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1F935-E3F8-44C6-95D4-2379ECF7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91F69-5AB9-4984-899D-42D2F9A0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1D850-695A-4929-9B64-BC49DE92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29380-6144-4AA8-A995-A6994A87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749F-D99D-4138-B59E-249D3A69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FADE-0C86-4A5C-AD9C-C064B091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549B-1DC6-4B3B-A216-5D2535A5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4764-B039-4136-AC9C-8C64107D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7F6D-4122-4533-95C2-620F386F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61F-03C0-4993-BC02-3B258E7F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3F9E-B24B-416A-9B99-E5A7C7A7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9D1A-ED6D-4929-A1CE-AC26F4D5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50B8-9B56-4F82-9D74-EF17BBC9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C28F-729C-4746-8414-E2D16E3E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6DD1-C843-4FCA-AEAB-2E9DF596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D75F-6458-4894-9EA3-51238D48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7B023-4C1E-4878-BB6C-282E63C6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4BD8E-8C69-460F-B27F-D2DBC459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80A2B-6455-4E49-A8BD-22C54D37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24713-29A7-4F8A-9184-D1B110A2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7E7-CD0E-466C-BF73-8FBF8856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1B8BA-35C9-44FF-9B7F-0A3AF1FE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6FE8-038D-497C-8B3D-72114945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44DB-4430-46DF-A629-D64A8EB9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C5A59-75DB-496E-9B0B-6C3F3BFF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7AA1-E1FE-44D2-A669-C7A99A05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B8EC2-CDF2-43A7-A4DA-9375D16B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602B6-466B-466F-8A8C-CDB12E44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BFA63-47B2-4B39-9C75-DF8619E3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23DC4-4AD9-4C52-93C1-3FC94A04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A917E-13E0-48DB-842D-654F4C64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719-7729-48BD-B310-4B152E66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2FC59-E0CE-4ECD-9EF5-2DA1CD35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79D4F-C30F-48DE-B1ED-0C555A72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70220-B12F-4C76-83B8-ECCDC5B7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E352E-77E7-4238-9C97-200001C2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C233C-BB53-4172-9F6B-C32AB8FC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B6E35-5394-4D67-ADB9-44A59A47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E8AAD-528A-4846-A9D3-0419A1FA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7FC9D-6505-4C41-95D1-5C8B6B63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FF913-4A04-499A-936B-2C24A7D0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D4798-B6DB-4547-9C0B-EF11BF81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861A-E3E8-497D-A2BB-48E40BF8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BEDC4-270C-43D5-AC21-21A69A35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450CA-DBED-4F29-8D23-A2A9EC63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A01A4-D8EF-4AB5-A593-07DACF1F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5BEE7-C0D5-4C5F-A890-4CDFAAD7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BA3F4-F00F-4D3A-8BF4-F149615A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01641-168E-459A-8D4D-A98C1AA1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1D7D3-5B51-48A5-A8A6-91CBE0E7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A0CE3-6CA2-4E4A-9092-A71BAD02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14113-C71C-4FD7-8C6C-9EF26137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E2110-9C62-4576-91CA-699F72D3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AAC-5992-4B4D-AFC1-41343882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946D2-C7E2-4067-BEC5-C6AA56B6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CD634-C1D8-4B86-AF75-90511678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CA896-19FA-4F5A-A9BC-40E6930A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BCDFF-480B-4B55-ACBA-C41FE544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37302-4A9B-4D26-ACA9-3BB5074F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442EA-F7A8-460F-9C4E-2BDDCD0A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51872-D192-4378-82A0-8345A8BE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3D808-B280-4421-8DAE-78DA5869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152FC-71A4-41FA-935B-94D6A46E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621F1-09D0-4959-B737-89021AA0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01C-58C3-40F8-A505-F68F2160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2ECB8-2C4B-4558-8E03-B0904431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9C2AB-51A1-498C-8D76-F19EA653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630F5-E1B2-48A2-A9F4-D5A34C51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430D5-8442-4669-92DA-55C34E0D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0F4AD-4757-44E3-A22E-7F570544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BA56C-C68C-4E3B-A0DC-DA76DABD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14F7B-F951-4333-AC10-71C957DC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7E532-0F91-4E6E-846E-C9607E23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E54D6-0AC4-4957-8076-A56D9160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615EA-E6C5-4AE3-B518-9F5E0001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271-4A86-4AFE-9B22-61D1243D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23840-C5FB-4E7D-BCB5-27EEBB75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D292B-32C4-4290-BB9F-FE42D2B2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955BE-6FC9-441B-8EBB-411AD628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6EEA0-D694-499A-A199-B846DBCA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BB612-CB77-4F1D-9683-84319019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F48BD-3EB5-4DF2-9757-A030FA3E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94499-6DA8-44DC-9D36-7F52CAC5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12B97-AF50-4A86-8A3A-ED9E15C1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893B8-6204-431A-AC73-331378E0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3895E-607E-4084-8EBE-45186378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849C-0463-4774-99FB-49EFD22B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72F9F-0D31-47ED-92F6-18221A9A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36716-0354-4A35-96BB-FCD92909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CDC23-474D-4E18-9FC4-957394DB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E1E8A-423E-4391-80E8-A1DADCC3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18FA9-3F7C-4C6E-BF8F-A56D1ADC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9785B-DE88-4EB9-8C70-889B1965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69D43-FC08-4B33-BD89-C2D0C298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63E88-C267-41F1-94BE-C21C3C42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F461D-89F6-4F3C-8687-FE21941B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BF033-3582-405E-9770-77AD9F0E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E7C0-AA57-4DCF-8D7E-59011B78CB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0E11-79D4-4A28-94B7-E87A3FBE610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66AF-5570-4073-8FD3-39983BB4BA7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8294-E495-49EC-A25E-B3D40700B7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3659-2612-4558-90BB-565E774851C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31C4-056D-4DA1-B0CD-2B439CD4292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5388-44D6-4E5A-92A6-4A018C9C482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EF7A-2BB9-4DD0-9AC3-9851191070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D0A5-53FE-42CB-9E2E-CB419CFAF3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8347-CA5D-49A9-AF86-121205BEE43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0763-FEC0-4F34-BA69-44C455D371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32E7-B392-46F4-8D33-68BC60425A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06 Deň ku koncu sa chý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ku koncu sa chý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očná tíš vo chví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krajom rozhost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Pane, prijmi chvál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za lásku, priazeň stál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hojnosť tvojej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deň odpočinku tvoj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chlebom Slova svoj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hojne sýtil ná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stále Duch tvoj nie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ás túžbu ľuďom sviet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avdy tvojej šíriť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iaď naše kroky, plán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rž stálu stráž nad na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práci úspech daj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nám svit tvojej tvár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na cestu svieti stál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cieľa šťastne dôjsť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pra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57:31Z</dcterms:modified>
  <cp:revision>12</cp:revision>
  <dc:subject/>
  <dc:title>Je veľký náš Pán, on slávy je Kráľ Nech do všetkých strán  spev vrúcnych znie chvál.</dc:title>
</cp:coreProperties>
</file>